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BD2DF-7069-4AD6-8ABB-FE895BBFA2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64E2A-838A-48B6-8218-90651AC7B7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81262-5A42-46F3-9257-F4FB6AC292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58B04-B270-438D-8D91-CD9D172759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83506-75D3-45BF-988D-51A011E6C0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356C8-F83D-44B0-85C2-5A3D8C0F41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79AB84-F1D2-442D-906A-425061BB96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B40C8-739A-4239-B801-9863B78A5C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BCC0C-3EAB-48E8-9CFE-08F559A4F7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4664D-F4FE-4E46-BF0A-2FD48915C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A4162-5681-4DA2-A962-55A6975FA1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1E794-6B62-477A-B5F3-B534A33C04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0220A-9D58-4E06-B5AE-03BD9E7322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CF5F9-E5FC-488C-842C-5D95356C33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21627-2CEE-46B0-8EAA-0FADDD6299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22883-C6CC-466C-B3DD-F2E4E82A28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AFCCC-4576-4297-B942-E700C6BACB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B6ADC-30BB-40E5-A24B-8CB8BD6AE4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EE561-A39F-4EE8-902D-7626D549E29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8A4B5-4496-433E-8237-260D5E5D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606F5-6189-451D-B1E5-C030959EBF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A032-07AB-47C7-88BC-28CF32E45B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1452-A69E-4C5C-9133-48AE695FB1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BCB6-DB83-4116-9F51-F0E9B480D4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649F-0625-4ACB-8E1C-6E2E14D53E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56E9-1C74-4EC0-B9FD-F57A7AADE5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C966-0ADB-4D62-A47E-1FA7B729FE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FD98-2B6F-49BF-A754-DAF0F05F172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A0E2-FD3E-4F2C-90B0-58CB8FC3E4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B299-30FD-49A2-A002-D994A91D2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0108-96E0-4794-B3EC-36929DCF6B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CB03-B72E-455F-B742-5631E235DD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E8FA-C4F8-42EE-9CF6-EF19E4D23A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E6907-B4BC-4107-ADF5-7770EAF818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6A632-2515-4A63-A906-6828D0AD70C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B7B6D-94DE-480D-AF4A-66C6294D4D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E2077-9E10-4108-9847-E5C6A5459C1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3F12D-F85A-43F2-86A2-26495802F7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22A17-6E1C-4E7E-8C60-9882889C02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C3D72-1C65-4956-A486-B9E63B9A35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9E0CD-1F80-454E-B4A5-7E68A33CF35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AABF7-44D2-4EA7-BCD0-535982CF38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75CD3-A6F6-45B4-B31A-2294A006CB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4A65B-6FF4-4AA7-AD1C-E2BA4538DF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2E46E-D029-40D3-9145-E471759F17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44D4F-8966-4D1D-A064-C00FD1A037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4EE07-A650-4546-A09D-3537682105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1CA72-DB43-46C5-81E9-C126B0A2FC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42D7E-F36D-400D-BC97-876EC5C0A2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18E24-0229-441E-8752-4C2992438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19BB1-0C0F-40E2-986A-C42D72E4B6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E5126-FF0D-452B-BD45-458F53DF13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AFE76-ACFE-49E9-8D37-AEF19DDB9FC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15DA1-C4BB-4253-8C90-A49814546F7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FC228-7D8A-4D13-AE5E-555AEE3E09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26787-C4E9-4B0B-A397-853BAECD8E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699D4-BECD-4959-931F-0035ACDD3A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24870-1543-4B1E-B861-E8D7806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68B1C-2467-4DEC-89C7-11EA0E4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6024B-3EA6-4C54-A29E-74E06AF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1F0C0-E765-42B8-8A5F-8EBDEDC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6FE1F-6EB6-47C8-8317-E4A8C634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9CBB6-3E34-41B8-96BB-20C63AFA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2571A-6CDC-4CBE-A35A-D93E3CE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5A5DC-DB4A-456D-8E04-984FE26A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12C32-8FDF-4AB6-9732-24DFE4E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20902-F58D-4F13-A77E-F77BB236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74D96-6D3E-4571-88CA-60E9B74E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127BA-A62E-4090-9E57-C0160611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4E2CF-091C-4BA7-AC64-92DF724B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8ADB8-64FA-4A3C-A7A3-C9FE5D98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C60A9-D0A0-4755-B93C-7D2B683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3C3E9-6739-45B6-99BC-446D4E7D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42F08-68D5-4E97-9237-35EA868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3E53E-A049-48D6-9D2F-44F9539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E8F00-0FBE-465F-AD2E-FFCDF1E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E00F8-B487-452F-8A1E-6713E0E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DE37E-65B9-47EF-8B40-4395658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213E3-BC21-45D3-BEE7-CEC06E5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E20DA-BC7D-4EC7-9AA0-F4B181FE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381E4-A082-402F-953B-27E1569E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6669E-596C-4851-936E-182F90D3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2F0D2-4393-44BE-9E95-28A915A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2103E-4D7E-4DCC-BDD1-16F0D0F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54094-6294-4313-8B10-5C6A396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20F4A-B983-4466-9054-B3279E7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C1359-8685-4CC3-9FB3-90C04D3C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E2797-631C-496A-B889-AABF40B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5B95B-7364-461F-AB8D-C2C3CC2B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064CC-FECD-4835-98ED-729C17E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EC9C7-A44E-4103-B702-66BC9DBC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A0EE9-390C-4B33-B4B5-DCB6AAC7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069D7-481C-47B5-9B04-5D519647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A1B95-36F6-475A-B21F-EDCF4BD5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79515-5E5A-4676-9876-DAE88A86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7E467-6B72-4447-926F-508517F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54B0C-35FB-4DB2-B73F-F5A2C0C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91797-541B-4459-ACCC-C0F098E9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256DE-2BBD-47A1-B0C0-2B0D59CB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03FB6-EDFF-446A-BA0C-A4F01A6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C24A6-81B9-4066-893B-4FCB36F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32FB1-6CF8-4B22-8C04-EA0C794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8CE5F0-D582-4E44-82B4-2C6608C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4F3E2-BA43-4B9A-BA35-C1D3FC45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8325C-000A-44F7-BABB-B63249A8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2CC49-F8AB-4A98-9A6C-0CAD8703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FF167-EA07-429D-A184-0E9A8B3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7E7C7-9D5D-463F-9421-6FF04E4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CA429-627D-4318-BDF6-3DBF778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C4E821-162F-485B-B2B4-BC46DC0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394353-6A61-4EAF-9FE2-908527E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F7B63-EE30-4983-959D-18E75B2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CE551-E6A0-4CE8-A0BF-813B2A8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E6614-88DA-429C-954F-99A37E9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8345E-CED4-4F68-8DCC-EACD670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91D1B-458A-4090-91A0-133F55E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5DCD2-E777-4E95-A715-0D2D68B7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D85837-4D4C-4DEE-87E4-CE048A30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FBE9E6-FD3E-4330-9FAB-89CA754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4D97D1-6549-4864-A668-A982E0A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1FE1F9-25CC-46AC-832A-6FFB8C0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DD2A0E-0B19-4A8E-B2A5-EC92265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DD5CDC-6563-4533-8BEB-1FEE946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71DCD4-DD6F-4640-B3C5-0F0B33D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8A1418-1F9B-4056-B34E-CC40D11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794BDE-A8A0-4FD1-839B-CB40019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4A9C5-1F3C-4CEE-806E-D599E9D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23E8D-90A8-4231-9A9F-9B7BFEBB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B381D-7509-4A40-9702-9E231B1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DBC0A-753B-496E-9CC2-A776178A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090C1C-E394-417B-805F-FE155964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90F2FD-D5EA-47C6-9531-3E0698F9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A0709-3A9C-40A0-9BA7-E890ECED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FE5AB-575E-4FD1-96F5-6632D2CA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EEA831-9107-4D3B-926D-BB8D6CF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8E45E0-14AD-444B-9FA2-7E629B6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9FD03-B3A9-47B2-8676-C47E55A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AEEE73-6A4F-4AE6-8B06-5BF235A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70DE17-B41B-409C-8D9C-D8CE658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0BE37-2EB4-4657-A631-84C6A2D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81B0A0-D7AD-4B4E-935A-B826AA74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763DBA-1AFC-4BAE-907F-54FFAEE1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49A0F5-01A2-4F09-A566-9D071D5F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9434CA-15A7-4BF1-8C7F-9463BC3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D43D76-93EB-4ACB-A72E-B860A5F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207B16-06AC-45E5-BA2F-C9443BC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4051E3-5AEE-4888-9BC7-1EEBB2C9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874DCD-E7E0-4BC9-B2A1-856652D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39FE6-0EC8-4558-A23B-A812DCA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F02C67-716C-4F6C-9C36-31058D5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AB77-AD3E-4FEA-A6ED-10A0EECD6DE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4E9FBC-6A54-4C8E-936D-B932A3C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1DBDE0-F882-4F60-8D8A-1EE9FE2B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5FFB29-CD44-4CFE-9001-119C657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EF7D8A-B299-4C52-9A55-2F5CD8A2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A12E29-305D-49D5-B667-2885D674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CF6ABC-BA47-4BEF-B7BC-FC12059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27A645-B08F-4B80-BB80-55067C6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92406-53C1-4FFE-8452-833B784F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2A2E1-1987-435E-B039-EEB0F34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C4648-494D-43CE-9A63-C99EDBA6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C0F1-3016-4174-AF02-D5382026460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9FDA45-EDAF-473F-A273-CFB9949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F91A7-B035-4655-A050-D7AD538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B425A-9C4D-4AF3-8C74-11CFEBA1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2C3E7-9AF2-4553-A78D-904D9284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14C59-8BF9-43B5-B345-45B16941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50A0FE-99F1-44F3-9A3C-036359E2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546E7D-8A1C-42F5-B909-295C785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BF6FDA-FAC7-4B3B-8C02-7941AA54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619C0B-4E16-4244-85C5-FEDAF4D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16415B-C3F2-4E8B-A4D1-07B9188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8362-0F00-40C8-B3F7-B949DD03589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B90321-6A4D-410F-A69E-170845B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77C81F-2415-4226-85B7-40C6DF0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75E8C7-834B-46D9-9E05-E4824E2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F112C2-17C5-491D-ABDE-0521B4D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75AB03-896A-40E0-85D2-6FB3CBB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7BF69A-4696-433A-8339-BA9E2CC8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AC8C33-F8E5-40CE-8153-30B7D1FE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55A91A-BD2A-40E2-88EE-EE40896A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6821F3-7D67-431D-9A8A-4F470C2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0A9CB6-9B06-4F03-B4D0-B264419C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7D11-BC0A-4E11-AE74-AFD94F8567D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DCB1B9-C2FE-4C46-A8E2-BAD2189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A143A6-BB1E-45D9-B7E4-13087953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8F7598-425C-4AAA-9F8C-B5111498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BFD47C-204D-4998-8339-21BBBAE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F22328-F238-4EF6-AD37-462FBB4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F91C74-DC0B-4313-9822-5477E84F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640456-C6C7-4AD4-9EDC-981F253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C7B458-9450-41AE-AD22-B76B8C4C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41AAB5-CDDC-4EB2-91AC-D1A1293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9FA4-13E7-4FB7-94A4-DB13769E3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3CF7-186E-424B-852A-1E47C45F40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BA1-6DDD-480A-945A-CC25D8F144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7C11-A507-49E4-BEDE-904040E908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431A-FA5F-4AE0-98DA-FFCDEA823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31E5-9870-4B49-A7D2-D58C3A8FCF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41FD-8268-43EE-B0DD-33CC4878AA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7319-2CFF-4A49-B38E-CFBD1B119C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9F12-EE89-4C0F-A71D-229D3943ED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3DE5-DCCC-4D76-82FF-96926300AD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DBFE-6473-4A6E-8C25-99EF02AEC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9415-D4DC-4F7E-BE28-56B491158A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047B-16A3-48D0-A1CE-8869DFB877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8D78-7982-4660-B598-4D8B221AE8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F5F8-FCCD-4C5D-B9AB-076AF6ED9C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6152-8F85-4F1F-B4E9-B4C1906F65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5B91-0D2B-44B5-8D90-3514250F5F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970B-BF7F-4B3E-96E2-E5EC63FCA2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46DF-BCAF-4466-8D10-C65A85D27E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8DBA-184F-4AAE-BC0B-F0536FCFC9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2EF-F943-4D23-9C9F-15355FDE5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6BF-1EB9-4D49-82AA-8373C69514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324-302D-45EA-9CF9-BD9FED86E0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19D-0DA3-4093-9D70-E779A4518B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0F1-E12F-4200-9CB3-C18F3A2063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FD3-31CC-4F22-89BB-2816913423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F9A-4CE2-488C-ABDE-6556DBB665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054-91E9-4776-89EA-80161D8BBB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BB8-0A15-4E48-AEB0-E02D61E683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DF8-E0A1-4745-87A1-BC2BDFA2E8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346-013C-42E1-B66F-9267FD8AE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2F6-567F-4B73-81DA-1068B4CEC6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3830-16E7-4A5C-BD5E-25493DEDA9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1B0DC-6649-45DE-9CCE-B224F7B241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6DE34-2D2E-4079-811A-7B82F7EE67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05281-B5F5-4A2A-8F79-76220772973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B5F9C-1FBA-435B-B655-4974C008C1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7532C-C2A0-4334-838F-9207DC5362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6491F-A778-428F-A404-77B8C39076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DB8FF-61B9-4E2D-A324-98D0F4ECDE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3349C-7868-4CE3-9492-82704AB23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F8D89-C892-4733-89CE-93814596AB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A9C10-EE3D-479B-B6ED-699AD02E1F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8A1A9-E0F8-4360-A904-5A06B66945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A0C35-F925-478E-95FC-D5E1E73399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3833D-6817-4115-A5C8-57220E08EE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EED61-89A6-47AE-8F03-B55F31E5E1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4AECB-B61B-4C71-ADF1-4C3B0BA458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F873D-156F-4E51-8B30-A80159B7E3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4EBD-5BBE-4CCF-B625-CAC37312C6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891A-0F7B-4156-B987-6518BAD42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D3A0D-8AE0-4AA7-827A-9661998A2E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09EE2-56BD-4DBE-9C2B-405B0CB1D1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7B1FE-273A-4025-AE2F-1244BCCEFA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41EF-6045-46E1-A749-9454DF5F88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A13A2-AA0A-4A6B-A8F0-AE1682CA5D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1579-40DB-40DC-9B11-6CAF1FA858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92E-3BC1-48D3-9ACA-35BBE8DCDC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F28-1C30-48B8-9C94-0E4AD20076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5AC8-93C5-4410-B501-7535448F69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C3EE-5934-4D15-89D4-09E5F12BF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D0D-9705-4A4D-9170-4A34E4AC23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0654-3849-443A-A1C2-19FDD5FC50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45E0-F462-45A5-99DC-F535F12B1D9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9A8A-19E0-4FAC-8B1D-DE7C294005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A04-8944-4A7F-A98F-1DB0504B5A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0068-3BBB-4751-A5F2-3BA019FC8C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D598-E77E-4B10-9850-D91D66E1DA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3EF75-8420-4F23-9EB8-AACE07DEC3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81351-810D-4B1C-A4F5-1C1A6E1E9F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E0835-3600-4552-8FC9-0E6846F4D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221306-B808-4F00-A4C0-F57744B17ED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F7162B-FC74-41EB-8E2F-24052F8A56F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43490A-D659-49EC-BD3F-73F370C78D6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2AA64-E99A-4871-A367-B6396A2AD4E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D84E6C-DC74-4AE2-A4A1-C7B0D5CDB50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38D48B-021F-4938-9059-29451BABED8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9D8386-F5B6-4777-B35D-2438E10B3FE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A92679-ACD7-45B5-B7D4-5C8850A452F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65AF7F-5C62-400D-8CFD-7389BCAFF0C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E0C3D3-AB81-471B-9867-6658CB7F7A8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54D0AE-A05A-4DBB-B166-9452920A33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2CC848-2E3F-47CB-9937-993AD8B7382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B507D0-3484-420F-A228-D4D777FA97F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27D962-BCAC-40D9-B93F-2E4E78D6F39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C5AB96-632A-49AD-99B5-076250A28AB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DA8E58-9E45-4F85-9BA7-860227417E8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AB0F66-E5E2-462A-904D-62E004CFC37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468C31-7840-4939-A162-969B4EE946E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68A292-C46C-4340-9300-2B8953041AF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192DBF-0BAD-45EF-8B96-ACBDFB7AD02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39B3EB-3249-4E5A-A5C2-EB5C72C11A2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50F43C-B5DB-4B0F-8ADD-DBF94F11B21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ángulo 3"/>
          <p:cNvSpPr/>
          <p:nvPr/>
        </p:nvSpPr>
        <p:spPr>
          <a:xfrm>
            <a:off x="755640" y="1413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 de los movimientos y las secreciones, en el reino animal se producen otros tipos de respuestas a estímulo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7" name="Botón de acción: Personalizar 6"/>
          <p:cNvGrpSpPr/>
          <p:nvPr/>
        </p:nvGrpSpPr>
        <p:grpSpPr>
          <a:xfrm>
            <a:off x="6089760" y="3456000"/>
            <a:ext cx="2146320" cy="1135080"/>
            <a:chOff x="6089760" y="3456000"/>
            <a:chExt cx="2146320" cy="1135080"/>
          </a:xfrm>
        </p:grpSpPr>
        <p:pic>
          <p:nvPicPr>
            <p:cNvPr id="1068" name="Botón de acción: Personalizar 6" descr=""/>
            <p:cNvPicPr/>
            <p:nvPr/>
          </p:nvPicPr>
          <p:blipFill>
            <a:blip r:embed="rId1"/>
            <a:stretch/>
          </p:blipFill>
          <p:spPr>
            <a:xfrm>
              <a:off x="608976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6156360" y="350028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Producción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de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0" name="Botón de acción: Personalizar 7"/>
          <p:cNvGrpSpPr/>
          <p:nvPr/>
        </p:nvGrpSpPr>
        <p:grpSpPr>
          <a:xfrm>
            <a:off x="3425760" y="3456000"/>
            <a:ext cx="2146320" cy="1135080"/>
            <a:chOff x="3425760" y="3456000"/>
            <a:chExt cx="2146320" cy="1135080"/>
          </a:xfrm>
        </p:grpSpPr>
        <p:pic>
          <p:nvPicPr>
            <p:cNvPr id="1071" name="Botón de acción: Personalizar 7" descr=""/>
            <p:cNvPicPr/>
            <p:nvPr/>
          </p:nvPicPr>
          <p:blipFill>
            <a:blip r:embed="rId2"/>
            <a:stretch/>
          </p:blipFill>
          <p:spPr>
            <a:xfrm>
              <a:off x="342576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3492360" y="350028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Producción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de lu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3" name="Botón de acción: Personalizar 8"/>
          <p:cNvGrpSpPr/>
          <p:nvPr/>
        </p:nvGrpSpPr>
        <p:grpSpPr>
          <a:xfrm>
            <a:off x="762120" y="3456000"/>
            <a:ext cx="2146320" cy="1135080"/>
            <a:chOff x="762120" y="3456000"/>
            <a:chExt cx="2146320" cy="1135080"/>
          </a:xfrm>
        </p:grpSpPr>
        <p:pic>
          <p:nvPicPr>
            <p:cNvPr id="1074" name="Botón de acción: Personalizar 8" descr=""/>
            <p:cNvPicPr/>
            <p:nvPr/>
          </p:nvPicPr>
          <p:blipFill>
            <a:blip r:embed="rId3"/>
            <a:stretch/>
          </p:blipFill>
          <p:spPr>
            <a:xfrm>
              <a:off x="76212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826920" y="350028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  <a:ea typeface="Arial-BoldMT"/>
                </a:rPr>
                <a:t>Cambios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  <a:ea typeface="Arial-BoldMT"/>
                </a:rPr>
                <a:t>de co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6" name="Rectángulo 9"/>
          <p:cNvSpPr/>
          <p:nvPr/>
        </p:nvSpPr>
        <p:spPr>
          <a:xfrm>
            <a:off x="755640" y="5229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ulsa en los botones para saber m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ángulo 4"/>
          <p:cNvSpPr/>
          <p:nvPr/>
        </p:nvSpPr>
        <p:spPr>
          <a:xfrm>
            <a:off x="755640" y="1557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chos animales pueden cambiar el color de su piel a voluntad. Lo hacen para camuflarse en el entorno, para advertir a sus depredadores o para comunicarse con otros individuos de su especie (por ejemplo para el cortej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Cambios de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9" name="Botón de acción: Inicio 13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080" name="Botón de acción: Inicio 13" descr=""/>
            <p:cNvPicPr/>
            <p:nvPr/>
          </p:nvPicPr>
          <p:blipFill>
            <a:blip r:embed="rId1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2" name="Agrupar 16"/>
          <p:cNvGrpSpPr/>
          <p:nvPr/>
        </p:nvGrpSpPr>
        <p:grpSpPr>
          <a:xfrm>
            <a:off x="755640" y="2637000"/>
            <a:ext cx="3960720" cy="3456000"/>
            <a:chOff x="755640" y="2637000"/>
            <a:chExt cx="3960720" cy="3456000"/>
          </a:xfrm>
        </p:grpSpPr>
        <p:grpSp>
          <p:nvGrpSpPr>
            <p:cNvPr id="1083" name="Agrupar 11"/>
            <p:cNvGrpSpPr/>
            <p:nvPr/>
          </p:nvGrpSpPr>
          <p:grpSpPr>
            <a:xfrm>
              <a:off x="755640" y="2637000"/>
              <a:ext cx="3960720" cy="3456000"/>
              <a:chOff x="755640" y="2637000"/>
              <a:chExt cx="3960720" cy="3456000"/>
            </a:xfrm>
          </p:grpSpPr>
          <p:pic>
            <p:nvPicPr>
              <p:cNvPr id="1084" name="Imagen 6" descr="camaleon_bd.jpg"/>
              <p:cNvPicPr/>
              <p:nvPr/>
            </p:nvPicPr>
            <p:blipFill>
              <a:blip r:embed="rId2"/>
              <a:srcRect l="2739" t="0" r="8862" b="0"/>
              <a:stretch/>
            </p:blipFill>
            <p:spPr>
              <a:xfrm>
                <a:off x="864000" y="3347640"/>
                <a:ext cx="3498120" cy="274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Rectángulo 7"/>
              <p:cNvSpPr/>
              <p:nvPr/>
            </p:nvSpPr>
            <p:spPr>
              <a:xfrm>
                <a:off x="755640" y="2637000"/>
                <a:ext cx="39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El camaleón adapta su color al del medio en el que viv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Rectángulo 14"/>
            <p:cNvSpPr/>
            <p:nvPr/>
          </p:nvSpPr>
          <p:spPr>
            <a:xfrm>
              <a:off x="1979640" y="566100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amale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Agrupar 17"/>
          <p:cNvGrpSpPr/>
          <p:nvPr/>
        </p:nvGrpSpPr>
        <p:grpSpPr>
          <a:xfrm>
            <a:off x="4859280" y="2637000"/>
            <a:ext cx="3960720" cy="3456000"/>
            <a:chOff x="4859280" y="2637000"/>
            <a:chExt cx="3960720" cy="3456000"/>
          </a:xfrm>
        </p:grpSpPr>
        <p:grpSp>
          <p:nvGrpSpPr>
            <p:cNvPr id="1088" name="Agrupar 12"/>
            <p:cNvGrpSpPr/>
            <p:nvPr/>
          </p:nvGrpSpPr>
          <p:grpSpPr>
            <a:xfrm>
              <a:off x="4859280" y="2637000"/>
              <a:ext cx="3960720" cy="3456000"/>
              <a:chOff x="4859280" y="2637000"/>
              <a:chExt cx="3960720" cy="3456000"/>
            </a:xfrm>
          </p:grpSpPr>
          <p:sp>
            <p:nvSpPr>
              <p:cNvPr id="1089" name="Rectángulo 9"/>
              <p:cNvSpPr/>
              <p:nvPr/>
            </p:nvSpPr>
            <p:spPr>
              <a:xfrm>
                <a:off x="4859280" y="2637000"/>
                <a:ext cx="39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Los cefalópodos pueden cambiar de color con gran rapidez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90" name="Imagen 10" descr="pulpo_bd.jpg"/>
              <p:cNvPicPr/>
              <p:nvPr/>
            </p:nvPicPr>
            <p:blipFill>
              <a:blip r:embed="rId3"/>
              <a:srcRect l="3161" t="0" r="6233" b="0"/>
              <a:stretch/>
            </p:blipFill>
            <p:spPr>
              <a:xfrm>
                <a:off x="5058360" y="3350880"/>
                <a:ext cx="3654360" cy="2742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1" name="Rectángulo 15"/>
            <p:cNvSpPr/>
            <p:nvPr/>
          </p:nvSpPr>
          <p:spPr>
            <a:xfrm>
              <a:off x="6371640" y="342900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ul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ángulo 4"/>
          <p:cNvSpPr/>
          <p:nvPr/>
        </p:nvSpPr>
        <p:spPr>
          <a:xfrm>
            <a:off x="755640" y="1628640"/>
            <a:ext cx="3311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bioluminiscencia o producción de luz por organismos está muy extendida entre los seres mari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e los seres terrestres, destaca el caso de las luciérna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s escarabajos generan una luz amarillo verdosa en el extremo de su abdomen para atraer al sexo opue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Producción de lu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4" name="Agrupar 2"/>
          <p:cNvGrpSpPr/>
          <p:nvPr/>
        </p:nvGrpSpPr>
        <p:grpSpPr>
          <a:xfrm>
            <a:off x="4716360" y="1341360"/>
            <a:ext cx="3600720" cy="4532400"/>
            <a:chOff x="4716360" y="1341360"/>
            <a:chExt cx="3600720" cy="4532400"/>
          </a:xfrm>
        </p:grpSpPr>
        <p:pic>
          <p:nvPicPr>
            <p:cNvPr id="1095" name="Imagen 1" descr="luciernaga_bd.jpg"/>
            <p:cNvPicPr/>
            <p:nvPr/>
          </p:nvPicPr>
          <p:blipFill>
            <a:blip r:embed="rId1"/>
            <a:srcRect l="0" t="12146" r="0" b="-3515"/>
            <a:stretch/>
          </p:blipFill>
          <p:spPr>
            <a:xfrm>
              <a:off x="4716360" y="1341360"/>
              <a:ext cx="3600720" cy="45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Rectángulo 14"/>
            <p:cNvSpPr/>
            <p:nvPr/>
          </p:nvSpPr>
          <p:spPr>
            <a:xfrm>
              <a:off x="5940720" y="14133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Luciérnag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Botón de acción: Inicio 8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098" name="Botón de acción: Inicio 8" descr=""/>
            <p:cNvPicPr/>
            <p:nvPr/>
          </p:nvPicPr>
          <p:blipFill>
            <a:blip r:embed="rId2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ángulo 4"/>
          <p:cNvSpPr/>
          <p:nvPr/>
        </p:nvSpPr>
        <p:spPr>
          <a:xfrm>
            <a:off x="75564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unos organismos acuáticos, como las anguilas eléctricas o un tipo de rayas llamadas torpedos o tembladeras, pueden producir electricidad en sus cuerpos y descargarla al agua para aturdir a sus presas o a sus depreda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roducción de electri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2" name="Agrupar 1"/>
          <p:cNvGrpSpPr/>
          <p:nvPr/>
        </p:nvGrpSpPr>
        <p:grpSpPr>
          <a:xfrm>
            <a:off x="900000" y="2781360"/>
            <a:ext cx="7302600" cy="3095640"/>
            <a:chOff x="900000" y="2781360"/>
            <a:chExt cx="7302600" cy="3095640"/>
          </a:xfrm>
        </p:grpSpPr>
        <p:pic>
          <p:nvPicPr>
            <p:cNvPr id="1103" name="Imagen 2" descr="tembladera_bd.jpg"/>
            <p:cNvPicPr/>
            <p:nvPr/>
          </p:nvPicPr>
          <p:blipFill>
            <a:blip r:embed="rId1"/>
            <a:srcRect l="0" t="26728" r="0" b="8584"/>
            <a:stretch/>
          </p:blipFill>
          <p:spPr>
            <a:xfrm>
              <a:off x="900000" y="2781360"/>
              <a:ext cx="73026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Rectángulo 7"/>
            <p:cNvSpPr/>
            <p:nvPr/>
          </p:nvSpPr>
          <p:spPr>
            <a:xfrm>
              <a:off x="971280" y="285264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emblader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5" name="Botón de acción: Inicio 8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106" name="Botón de acción: Inicio 8" descr=""/>
            <p:cNvPicPr/>
            <p:nvPr/>
          </p:nvPicPr>
          <p:blipFill>
            <a:blip r:embed="rId2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46:37Z</dcterms:modified>
  <cp:revision>16</cp:revision>
  <dc:subject/>
  <dc:title>Presentación de PowerPoint</dc:title>
</cp:coreProperties>
</file>